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D03-E0DC-4FE0-911D-E74FDD47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435-57B1-4655-929A-F6806BF8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0C8-B2EB-4A37-9309-160E62B5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339-F718-4CFE-8212-C6991B8E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8C21-0684-41D5-86F6-43C7B6A2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71B9-B1B9-48E8-83A6-DCF7DBB9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B76E-343D-4B9B-A7CA-D12B2371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1495-D6EF-429C-8B4F-9BD492D9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ADB8-3B99-426C-B572-EE6E4C54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0818-F204-4AA7-AF2E-A5A09942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8BE5-17EE-403F-90C7-6B3E2E90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43D-2913-4A13-9D9C-CA2AA164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0780-6A3A-4879-B17D-9441A59A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86B1-57E6-409A-A430-14588597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83E9-5E50-41A1-AA57-CACEB958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B118-2693-4872-9CD0-7EB015AB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8EE0-0D43-48EA-9B2D-DA00EFB2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A4E-2C04-4C30-8A0D-4FEBAF47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9E8-F161-4DEA-B707-B20990EA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EE8-ADB7-442C-8966-2D41AF8A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174-C9F1-49A4-A212-E4973ACC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A11-F6C4-40B3-AA10-C18E75D1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BDF-CCDF-4DE2-8CDB-62F3D9F0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910-3459-4D32-BFCD-637AB40D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712C-E0BC-4594-A330-9D0D48DCDE8F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C2A2-D7B9-4D88-9FBB-67BD1F19DCB2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7012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Me llamo ______________ Clase 8im</a:t>
            </a:r>
            <a:br>
              <a:rPr sz="3200"/>
            </a:b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La fecha es el 15 de noviembre del 2012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cc"/>
                </a:solidFill>
                <a:latin typeface="Verdana"/>
              </a:rPr>
              <a:t>Propósito # 16: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cc"/>
                </a:solidFill>
                <a:latin typeface="Verdana"/>
              </a:rPr>
              <a:t>Actividad Inicial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Copia y completa con el pretérito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Yo _______ a una fiesta. (ir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Mis amigos _______ tambien (ir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Durante la fiesta nosotros ________ musica. (escuchar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Yo ________ unos picadillos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¿_________ tú un refresco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5080" y="0"/>
            <a:ext cx="82436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Verdana"/>
              </a:rPr>
              <a:t>Vocabulario Nuev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Los instrumento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48040" cy="2228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657840" y="1371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133720" y="1447920"/>
            <a:ext cx="2466720" cy="1857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648320" y="41148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6934320" y="4191120"/>
            <a:ext cx="2033640" cy="1628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419200" y="3800520"/>
            <a:ext cx="1924200" cy="23716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1760" y="3505320"/>
            <a:ext cx="138312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l pian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1280" y="3276720"/>
            <a:ext cx="136476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violí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64520" y="3276720"/>
            <a:ext cx="188136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a guitar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97960" y="3276720"/>
            <a:ext cx="195480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acorde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1840" y="5867280"/>
            <a:ext cx="202464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as baterí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0" y="38862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848320" y="6172200"/>
            <a:ext cx="118368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70640" y="6019920"/>
            <a:ext cx="206604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a trompe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91920" y="5867280"/>
            <a:ext cx="173052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saxof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14040" y="838080"/>
            <a:ext cx="2692440" cy="4597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he instru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9120" y="0"/>
            <a:ext cx="82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Verdana"/>
              </a:rPr>
              <a:t>Ejercicio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10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scucha y complet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Ejercicio 1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Verdana"/>
              </a:rPr>
              <a:t>(number 1-6)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. 268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mplet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Ejercicio 3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. 268; en oraciones completa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mplet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Ejercicio 4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. 268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EXTO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pia y complet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Ejercicio 5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. 269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611520"/>
            <a:ext cx="82436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Verdana"/>
              </a:rPr>
              <a:t>Tarea # 16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22:23:17Z</dcterms:created>
  <dc:creator>Helen Zumaeta</dc:creator>
  <dc:description/>
  <dc:language>en-US</dc:language>
  <cp:lastModifiedBy>Helen Zumaeta</cp:lastModifiedBy>
  <dcterms:modified xsi:type="dcterms:W3CDTF">2012-11-28T23:11:26Z</dcterms:modified>
  <cp:revision>3</cp:revision>
  <dc:subject/>
  <dc:title>Me llamo ______________ Clase 8im La fecha es el 15 de noviembre del 2012</dc:title>
</cp:coreProperties>
</file>